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944280" y="74736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724280"/>
            <a:ext cx="548172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5840" y="944532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17BA5-DF43-43E8-8208-A71DA559289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23223-6C39-448D-B049-ACA98FA57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1D4EF-92D3-42DE-BA57-A1276B834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BDEA6-80E3-40CB-85EB-D5FBF192CD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73DFA-597A-410C-BE07-E88ADFE16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8A83C-A8C5-4D4B-8679-334496325A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15817-F648-4F3F-9CE0-FFF34BA9C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E89A5-56EC-47F8-89EC-B57E79DC9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1C82A-8DBA-4237-9CA7-22D19235A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6D542-00C6-4821-AB77-B22D97208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D5424-D3DC-4BF3-A698-BA0D56903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F376C-2815-49A7-B47B-A5D3E5516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06902-AD15-4C7B-B642-A7A2C23C1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5B52-2635-4C41-B3EF-AF417157DE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B58A-FEA7-4D1E-8A83-6DF0AFB4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8388-3E7C-4746-9003-0DB194BB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6622-D503-4176-91ED-EB9E7438AC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CD30-A181-419D-85C8-ED8C86C1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7879-B2EC-499C-AFAB-8662C85A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0EC0-A7DD-4CCF-A66E-BBAEAAEC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1B2B-5032-4733-A786-F94F1964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C4FE-B366-4464-9B71-AE2DB1AC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60A2-A469-493D-8164-EA51A86F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31F70-F66D-4A29-A36C-A2AEB5CF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4FDB-0C6B-46B1-88E6-79C191BB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09516-C878-4A1A-95EA-8366146B771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1840" y="784080"/>
            <a:ext cx="8669160" cy="58136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960" y="1563840"/>
            <a:ext cx="808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ключении эффективного контракта  с работниками в государственных и муниципаль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70400" y="0"/>
            <a:ext cx="473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906800"/>
            <a:ext cx="53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840" y="2706840"/>
            <a:ext cx="8489880" cy="354168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формление осуществляется путем заключения дополнительного соглашения к трудовому договору в порядке, установленном  ТК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ребуется предупреждение работника об изменении условий трудового договора  в письменном виде не менее, чем за 2 месяца. Основание - статья 74 ТК РФ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363600"/>
            <a:ext cx="8520120" cy="1406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формления трудовых отношений при введении эффективного контракта с работниками, состоящими в трудовых отнош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031280" y="2077200"/>
            <a:ext cx="1073160" cy="5191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308400" y="-316080"/>
            <a:ext cx="602784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292480"/>
            <a:ext cx="8489880" cy="40748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олнительное соглашение к трудовому догово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уется заклю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мере разрабо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ей и критериев оценки эффективности труда работников учреждения  для определения размеров и условий осуществления стимулирующих выпла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- пункт 5 Рекомендаций по оформлению трудовых отношений с работником государственного (муниципального) учреждения при введении эффективного контракта, утв. Приказом Минтруда РФ от 26 апреля 2013 г. № 167 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880" y="146160"/>
            <a:ext cx="8520120" cy="137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формления  дополнительных соглашений к трудовому договору в связи с вве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го кон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077720" y="1631160"/>
            <a:ext cx="777600" cy="5191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9680" y="128520"/>
            <a:ext cx="8866080" cy="836640"/>
            <a:chOff x="139680" y="128520"/>
            <a:chExt cx="8866080" cy="8366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39680" y="128520"/>
              <a:ext cx="88660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03040" y="189000"/>
              <a:ext cx="874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рядок организации рабо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 введению в учреждении эффективного контракта с работник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"/>
          <p:cNvGraphicFramePr/>
          <p:nvPr/>
        </p:nvGraphicFramePr>
        <p:xfrm>
          <a:off x="282600" y="1060560"/>
          <a:ext cx="8567640" cy="5586480"/>
        </p:xfrm>
        <a:graphic>
          <a:graphicData uri="http://schemas.openxmlformats.org/drawingml/2006/table">
            <a:tbl>
              <a:tblPr/>
              <a:tblGrid>
                <a:gridCol w="8567640"/>
              </a:tblGrid>
              <a:tr h="119052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Создание  в учреждении комиссии или рабочей группы по организации работы, связанной с введением эффективного контрак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9596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Организация разъяснительной работы  в трудовом коллективе по вопросам введения эффективного контрак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Анализ действующих  трудовых договоров с работниками на предмет их соответствия требованиям ст. 57 ТК РФ и примерной формы трудового договора , в результате которого определяются трудовые договоры, в которые необходимо дополнить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сведениями о работнике или работодател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недостающими условиями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Разработка органом местного самоуправления показателей эффективности деятельности государственных, муниципальных учреждений их руководителей и отдельных категорий работников показателей эффективности деятельности работников учреждения  тру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9680" y="128520"/>
            <a:ext cx="8866080" cy="836640"/>
            <a:chOff x="139680" y="128520"/>
            <a:chExt cx="8866080" cy="8366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39680" y="128520"/>
              <a:ext cx="88660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3040" y="189000"/>
              <a:ext cx="874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рядок организации рабо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 введению в учреждении эффективного контракта с работник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262080" y="1071720"/>
          <a:ext cx="8678880" cy="5729040"/>
        </p:xfrm>
        <a:graphic>
          <a:graphicData uri="http://schemas.openxmlformats.org/drawingml/2006/table">
            <a:tbl>
              <a:tblPr/>
              <a:tblGrid>
                <a:gridCol w="8678880"/>
              </a:tblGrid>
              <a:tr h="487980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Разработка изменений в  положение о выплатах стимулирующего характера с учетом разработанных показ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зменения  принимаются в соответствии с требованиями ст. 135 ТК РФ- учитывается  мнение представительного органа работников, если иное не установлено в коллективном договоре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Конкретизировать трудовую функцию работ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.Подготовить  изменения в трудовые договоры с работни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 Уведомить работников в соответствии со ст. 74 ТК РФ письменно, не менее чем за 2 месяц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8.Внести изменения в трудовой догов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ВАЖНО</a:t>
                      </a: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–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сю работу по введению эффективного контракта вести в обстановке гласности, обсуждения в трудовом коллекти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492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4600" y="246240"/>
            <a:ext cx="8794800" cy="64101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0520" y="1857240"/>
            <a:ext cx="8489880" cy="44132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рудовой договор с работником, в котором конкретизированы его должностные обязанности, условия оплаты труда, показатели и критерии оценки эффективности деятельности для назначения стимулирующих выплат в зависимости от результатов труда и качества оказываемых государственных (муниципальных) услуг, а также меры социальной поддерж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84440" y="347760"/>
            <a:ext cx="5761080" cy="958680"/>
          </a:xfrm>
          <a:prstGeom prst="ellipse">
            <a:avLst/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ффективный контр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6880" y="1327680"/>
            <a:ext cx="507960" cy="465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080" y="0"/>
            <a:ext cx="321444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3760" y="1017720"/>
            <a:ext cx="8850240" cy="56768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2400" y="328680"/>
            <a:ext cx="8901000" cy="776160"/>
            <a:chOff x="122400" y="328680"/>
            <a:chExt cx="8901000" cy="77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22400" y="328680"/>
              <a:ext cx="890100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81080" y="392040"/>
              <a:ext cx="87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овая основа введения эффективного контракта в государственных и муниципальных учрежд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7960" y="1467000"/>
            <a:ext cx="8331120" cy="72360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Указ Президента РФ от 7 мая 2012 г. № 597 "О мероприятиях по реализации государственной социальной полит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720" y="2438280"/>
            <a:ext cx="8413920" cy="8924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грамма поэтапного совершенствования системы оплаты труда  в государственных (муниципальных) учреждениях на 2012 - 2018 годы,  утв.  распоряжением Правительства РФ от 26.11. 2012 г. № 2190-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800" y="3589200"/>
            <a:ext cx="8444160" cy="101628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Приказ Минтруда России №167н от 26 апреля 2013 г. «Об утверждении рекомендаций по оформлению трудовых отношений с работником государственного (муниципального) учреждения при введении эффективного контрак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800000">
            <a:off x="444240" y="4971960"/>
            <a:ext cx="8413560" cy="147816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становление Администрации района от 19.08.2014 г. № 151 «Об утверждении плана мероп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иятий («дорожная карта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479600"/>
            <a:ext cx="8196120" cy="515772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4120" y="1365120"/>
            <a:ext cx="8489880" cy="527220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вышение оплаты труда с учетом достижений конкретных показателей качества, оказываемых государственных (муниципальных) услуг на осн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Введения взаимоувязанной системы отраслевых показателей эффе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Установления соответствующих показателям  эффективности стимулирующих выплат, критериев и условий их назначения с отражением в примерных положениях об оплате труда работников учреждений, коллективных договорах, трудовых договор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Отмены неэффективных стимулирующих выпл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Использования при оценке достижения конкретных показателей качества и количества оказываемых государственных (муниципальных) услуг (выполнения работ) независимой системы оценки качества работы учреждений, включающей кроме критериев эффективности их работы и введение публичных рейтингов их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3800" y="135000"/>
            <a:ext cx="7684920" cy="892080"/>
          </a:xfrm>
          <a:prstGeom prst="ellipse">
            <a:avLst/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введения эффективного кон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4600" y="1044720"/>
            <a:ext cx="8794800" cy="56116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оформления трудовых отношений с работниками с использованием принципов эффективного контракта приме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ная форма трудового догов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приложение №3 к Программе поэтапного совершенств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стемы оплаты труда.)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680" y="201600"/>
            <a:ext cx="8834400" cy="836640"/>
            <a:chOff x="139680" y="201600"/>
            <a:chExt cx="8834400" cy="8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39680" y="201600"/>
              <a:ext cx="88344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03040" y="262080"/>
              <a:ext cx="87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ложения Рекомендаций по оформлению трудовых отношений с работниками при введении эффективного контра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25400" y="2801880"/>
            <a:ext cx="3846600" cy="1305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6" y="0"/>
                </a:lnTo>
                <a:lnTo>
                  <a:pt x="21600" y="10800"/>
                </a:lnTo>
                <a:lnTo>
                  <a:pt x="179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, поступ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3440" y="4543560"/>
            <a:ext cx="3911400" cy="155232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3" y="0"/>
                </a:lnTo>
                <a:lnTo>
                  <a:pt x="21600" y="10800"/>
                </a:lnTo>
                <a:lnTo>
                  <a:pt x="173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, работающий в учрежде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19760" y="2684520"/>
            <a:ext cx="3759120" cy="14810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овой договор по примерной форме (эффективный контракт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8120" y="4470480"/>
            <a:ext cx="3932280" cy="16682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ое согла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трудовому догово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 изменении его                     условий( в соответствии с примерной форм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0" y="755640"/>
            <a:ext cx="8794800" cy="56674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7440" y="174600"/>
            <a:ext cx="8723520" cy="7038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зработки трудового догов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принципов эффективного кон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5560" y="1036800"/>
            <a:ext cx="3395880" cy="49356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54360" y="3635280"/>
            <a:ext cx="3048120" cy="25956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Трудовую функц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Показатели и критерии оценки эффективности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Размер  и условия стимулир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ыплат,  определ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 учетом рекомендуемых показ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95640" y="1922400"/>
            <a:ext cx="2700360" cy="1656000"/>
          </a:xfrm>
          <a:prstGeom prst="downArrowCallout">
            <a:avLst>
              <a:gd name="adj1" fmla="val 25006"/>
              <a:gd name="adj2" fmla="val 24996"/>
              <a:gd name="adj3" fmla="val 25000"/>
              <a:gd name="adj4" fmla="val 6497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отношении каждого работника уточнить и конкретизиро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1886040"/>
            <a:ext cx="3059280" cy="29001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ть должностные обязанности работника непосредственно в тексте трудового договора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 с учетом действующих обязанностей, установленных должностной инстру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46360" y="1494000"/>
            <a:ext cx="971280" cy="38736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13600" y="1360440"/>
            <a:ext cx="1276200" cy="36360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6800" y="1981080"/>
            <a:ext cx="2043360" cy="2805120"/>
          </a:xfrm>
          <a:custGeom>
            <a:avLst/>
            <a:gdLst>
              <a:gd name="textAreaLeft" fmla="*/ 99720 w 2043360"/>
              <a:gd name="textAreaRight" fmla="*/ 1943640 w 2043360"/>
              <a:gd name="textAreaTop" fmla="*/ 99720 h 2805120"/>
              <a:gd name="textAreaBottom" fmla="*/ 2705400 h 2805120"/>
            </a:gdLst>
            <a:ahLst/>
            <a:rect l="textAreaLeft" t="textAreaTop" r="textAreaRight" b="textAreaBottom"/>
            <a:pathLst>
              <a:path w="21600" h="29651">
                <a:moveTo>
                  <a:pt x="3600" y="0"/>
                </a:moveTo>
                <a:arcTo wR="3600" hR="3600" stAng="16200000" swAng="-5400000"/>
                <a:lnTo>
                  <a:pt x="0" y="26051"/>
                </a:lnTo>
                <a:arcTo wR="3600" hR="3600" stAng="10800000" swAng="-5400000"/>
                <a:lnTo>
                  <a:pt x="18000" y="29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ть Пример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у трудового дого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ст. 57 ТК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37000" y="1590480"/>
            <a:ext cx="3240" cy="25380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600" y="685800"/>
            <a:ext cx="8794800" cy="59403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8760" y="109440"/>
            <a:ext cx="8834400" cy="532080"/>
            <a:chOff x="158760" y="109440"/>
            <a:chExt cx="8834400" cy="5320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58760" y="109440"/>
              <a:ext cx="8834400" cy="5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7440" y="174600"/>
              <a:ext cx="871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дел трудового договора IV. Оплата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2880" y="857160"/>
            <a:ext cx="791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 За выполнение трудовых обязанностей, предусмотренных настоящим трудов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ом, работнику устанавливается заработная плата в разме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) должностной оклад, ставка заработной платы _________ рублей в меся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 работнику производятся выплаты компенсационного харак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5880" y="2000160"/>
          <a:ext cx="7996320" cy="88740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2665440"/>
              </a:tblGrid>
              <a:tr h="658800"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, обусловливающий получение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67360" y="3044520"/>
            <a:ext cx="630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в) работнику производятся выплаты стимулирующего харак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15880" y="3448080"/>
          <a:ext cx="7953480" cy="1160280"/>
        </p:xfrm>
        <a:graphic>
          <a:graphicData uri="http://schemas.openxmlformats.org/drawingml/2006/table">
            <a:tbl>
              <a:tblPr/>
              <a:tblGrid>
                <a:gridCol w="1581120"/>
                <a:gridCol w="1600200"/>
                <a:gridCol w="2102040"/>
                <a:gridCol w="1349280"/>
                <a:gridCol w="1320840"/>
              </a:tblGrid>
              <a:tr h="895320"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и критерии оценки эффективности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98600" y="4718160"/>
            <a:ext cx="802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 Выплата заработной платы работнику производится в сроки и порядке, которые установлены трудовым договором, коллективным договором и правилами внутреннего трудового распоря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 На работника распространяются льготы, гарантии и компенсации, установл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м РФ, нормативными правовыми актами субъектов РФ, коллективным договором и локальными нормативными ак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7440" y="1103400"/>
            <a:ext cx="8751960" cy="55227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9680" y="109440"/>
            <a:ext cx="8834400" cy="611280"/>
            <a:chOff x="139680" y="109440"/>
            <a:chExt cx="8834400" cy="6112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39680" y="109440"/>
              <a:ext cx="88344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3040" y="189000"/>
              <a:ext cx="87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уемый перечень стимулирующих выплат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420840" y="1239840"/>
          <a:ext cx="8229600" cy="5230800"/>
        </p:xfrm>
        <a:graphic>
          <a:graphicData uri="http://schemas.openxmlformats.org/drawingml/2006/table">
            <a:tbl>
              <a:tblPr/>
              <a:tblGrid>
                <a:gridCol w="3294000"/>
                <a:gridCol w="4935600"/>
              </a:tblGrid>
              <a:tr h="1389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выплаты за интенсивность и высокие результаты рабо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интенсивность труд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высокие результаты работ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выполнение особо важных и ответственных рабо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71108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ыплаты за качество выполняемых рабо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наличие квалификационной категор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образцовое выполнение государственного (муниципального) задания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1065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ыплаты за стаж непрерывной работы, выслугу л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выслугу лет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стаж непрерывной рабо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65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премиальные выплаты по итогам рабо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месяц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кварта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год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246240"/>
            <a:ext cx="8794800" cy="64101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0520" y="770040"/>
            <a:ext cx="8489880" cy="55004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сновной принцип при разработке показателей для определения размеров стимулирующих выплат – порядок и условия  установления стимулирующих выплат должны быть понятны работодателю и работнику и не допускать двойного толк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4:44:06Z</dcterms:created>
  <dc:creator>Лёвкина</dc:creator>
  <dc:description/>
  <dc:language>en-US</dc:language>
  <cp:lastModifiedBy>Admin</cp:lastModifiedBy>
  <dcterms:modified xsi:type="dcterms:W3CDTF">2014-03-20T07:38:32Z</dcterms:modified>
  <cp:revision>1768</cp:revision>
  <dc:subject/>
  <dc:title>Слайд 1</dc:title>
</cp:coreProperties>
</file>